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6.gif" ContentType="image/gif"/>
  <Override PartName="/ppt/media/image21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2FCE-F9F0-4946-A760-8383D2A9843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513E-4EF7-4A56-B67A-2920115DB41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8CCE-0BC3-4B06-BEDC-EF177840ED4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A86-38E4-4576-9053-CA5EE574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E5D-076C-49CB-BCDA-ADC265BB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E5E-A76B-4BE1-94D8-02DDE5B8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0BC-B635-47C9-8DB3-A537E732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F188-A217-4C2D-9CAF-9FA1B56B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4DDB-EA0F-45D4-B933-E84E0507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75AE-7458-4E0C-A09F-B1FFAF9F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E53E-2FE8-426F-B549-E889A308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707A-26BD-4D63-AA56-79019ECD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A23D-D866-4886-88BD-76C15D3D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5A93-F0E8-42E6-A938-E05206E0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2FC-5C36-429E-91B7-C11E3B57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4507-A00E-4E88-99B9-B50C6E5A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2015-B2F6-4105-ACF9-764AE752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DBAD-0437-46C4-8915-26364F62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3454-F534-4B22-83E2-DCA4DE2C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3746-76CD-4320-A2C6-98E2AF14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B2C-32A5-4FAD-94A6-1186667C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A5B-0E03-4CD5-B5A0-2C8E41C9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C66-5F5B-42C6-BB1D-ECF86C69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107-5383-4A09-A20D-6E95FD09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E32-03A5-4EF9-A5F9-B89BFB29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014-EC06-420E-B8D7-06C35DB0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D66-5A0B-4CFF-AFF1-4BB09287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AF39-C652-40B6-BFAB-C1FFC60B271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22E4-CBBB-4C67-9884-1876773515D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artbiznes.pl/index.php/obrazy-w-przestworzach-czyli-o-micie-latania-w-sztuce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chimie-physique.weebly.com/antoine-laurent-lavoisier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google.pl/url?sa=i&amp;rct=j&amp;q=&amp;esrc=s&amp;source=images&amp;cd=&amp;cad=rja&amp;docid=mirG48mGOreu-M&amp;tbnid=5raNw75YgBJUPM:&amp;ved=0CAQQjB0&amp;url=http%3A%2F%2Fwww.tapeta-kwiaty-niebieskie-motyle-olte.na-telefon.org%2F&amp;ei=rAgxUZiYIYmr4ASzjIC4CA&amp;bvm=bv.43148975,d.bGE&amp;psig=AFQjCNEF59WcMGnNv4-BopKq7WEfXFOLPw&amp;ust=1362254371445238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www.kopalniawiedzy.pl/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historion.pl/rewolucja-przemyslowa-w-xviii-wieku-historia/4/" TargetMode="External"/><Relationship Id="rId4" Type="http://schemas.openxmlformats.org/officeDocument/2006/relationships/hyperlink" Target="http://www.primus.com.pl/ng9/strony%20uczniow/mateusz_borowski_wynalazcy/James_Watt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wikipedia.pl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ocities.com/rationalargumentator/John_Locke.jpg&amp;imgrefurl=http://www.geocities.com/rationalargumentator/lockeandiscourse.html&amp;h=867&amp;w=650&amp;sz=41&amp;hl=pl&amp;start=7&amp;um=1&amp;tbnid=xIT1rXzizuKCKM:&amp;tbnh=145&amp;tbnw=109&amp;prev=/images%3Fq%3Dlocke%26svnum%3D10%26um%3D1%26hl%3Dpl%26rlz%3D1T4SUNA_en___PL210%26sa%3DN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Oświecenie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j0429815[1]"/>
          <p:cNvPicPr/>
          <p:nvPr/>
        </p:nvPicPr>
        <p:blipFill>
          <a:blip r:embed="rId1"/>
          <a:stretch/>
        </p:blipFill>
        <p:spPr>
          <a:xfrm>
            <a:off x="0" y="2682720"/>
            <a:ext cx="23130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7640" y="333360"/>
            <a:ext cx="4103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ek XVIII okazał się przełomow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ównież, jeśli chodzi o badan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wadzone w naukach ścisłych 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rodniczych. Dokonano odkry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elu pierwiastków i pra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hemicznych. Konstruowan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rzędzia, które ułatwiał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złowiekowi poznawanie świa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krywano zjawiska przyrodnicz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izjologiczne oraz zasady mechanik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aerodynamiki – dzięki temu odby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ię na przykład pierwszy lot balon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Obraz 3" descr="http://www.artbiznes.pl/wp-content/uploads/2012/02/Montgolfier_brothers_flight.jpg"/>
          <p:cNvPicPr/>
          <p:nvPr/>
        </p:nvPicPr>
        <p:blipFill>
          <a:blip r:embed="rId1"/>
          <a:stretch/>
        </p:blipFill>
        <p:spPr>
          <a:xfrm>
            <a:off x="4140360" y="333360"/>
            <a:ext cx="4724280" cy="460044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4"/>
          <p:cNvSpPr/>
          <p:nvPr/>
        </p:nvSpPr>
        <p:spPr>
          <a:xfrm>
            <a:off x="5292720" y="50911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artbiznes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640720" cy="17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Johannes Kepler – Trzy prawa Keplera, prawo ruchu plan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Symbol zastępczy zawartości 3" descr="http://www.matematyka.wroc.pl/system/files/u12/roz/Kepler05.gif"/>
          <p:cNvPicPr/>
          <p:nvPr/>
        </p:nvPicPr>
        <p:blipFill>
          <a:blip r:embed="rId1"/>
          <a:stretch/>
        </p:blipFill>
        <p:spPr>
          <a:xfrm>
            <a:off x="1547640" y="2276640"/>
            <a:ext cx="4104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7138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Antoine Lavoisier – ojciec nowoczesnej chemii,spalanie tlen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irc_mi" descr="http://chimie-physique.weebly.com/uploads/9/4/5/4/9454150/3391559_orig.jpg"/>
          <p:cNvPicPr/>
          <p:nvPr/>
        </p:nvPicPr>
        <p:blipFill>
          <a:blip r:embed="rId1"/>
          <a:stretch/>
        </p:blipFill>
        <p:spPr>
          <a:xfrm>
            <a:off x="684360" y="2276640"/>
            <a:ext cx="4105080" cy="4176720"/>
          </a:xfrm>
          <a:prstGeom prst="rect">
            <a:avLst/>
          </a:prstGeom>
          <a:ln w="0">
            <a:noFill/>
          </a:ln>
        </p:spPr>
      </p:pic>
      <p:sp>
        <p:nvSpPr>
          <p:cNvPr id="137" name="Prostokąt 5"/>
          <p:cNvSpPr/>
          <p:nvPr/>
        </p:nvSpPr>
        <p:spPr>
          <a:xfrm>
            <a:off x="5292720" y="32446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himie-physique.weebly.co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–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476280"/>
            <a:ext cx="76802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Karol Linneusz –systematyka rośli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Symbol zastępczy zawartości 3" descr="http://www.tapeta-kwiaty-niebieskie-motyle-olte.na-telefon.org/tapety/kwiaty-niebieskie-motyle-olte.jpeg"/>
          <p:cNvPicPr/>
          <p:nvPr/>
        </p:nvPicPr>
        <p:blipFill>
          <a:blip r:embed="rId1"/>
          <a:stretch/>
        </p:blipFill>
        <p:spPr>
          <a:xfrm>
            <a:off x="1042920" y="1557360"/>
            <a:ext cx="4035600" cy="4392720"/>
          </a:xfrm>
          <a:prstGeom prst="rect">
            <a:avLst/>
          </a:prstGeom>
          <a:ln w="0">
            <a:noFill/>
          </a:ln>
        </p:spPr>
      </p:pic>
      <p:sp>
        <p:nvSpPr>
          <p:cNvPr id="140" name="Prostokąt 4"/>
          <p:cNvSpPr/>
          <p:nvPr/>
        </p:nvSpPr>
        <p:spPr>
          <a:xfrm>
            <a:off x="900000" y="59500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apeta-kwiaty-niebieskie-motyle-olte.na-telefon.or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Obraz 5" descr="http://kopalniawiedzy.pl/media/lib/8/1179917266_957137-418e62c7b2ed7be115bc6efcc612f9b6.jpeg"/>
          <p:cNvPicPr/>
          <p:nvPr/>
        </p:nvPicPr>
        <p:blipFill>
          <a:blip r:embed="rId3"/>
          <a:stretch/>
        </p:blipFill>
        <p:spPr>
          <a:xfrm>
            <a:off x="5673600" y="1557360"/>
            <a:ext cx="2248200" cy="2705040"/>
          </a:xfrm>
          <a:prstGeom prst="rect">
            <a:avLst/>
          </a:prstGeom>
          <a:ln w="0">
            <a:noFill/>
          </a:ln>
        </p:spPr>
      </p:pic>
      <p:sp>
        <p:nvSpPr>
          <p:cNvPr id="142" name="Prostokąt 6"/>
          <p:cNvSpPr/>
          <p:nvPr/>
        </p:nvSpPr>
        <p:spPr>
          <a:xfrm>
            <a:off x="5364000" y="42624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kopalniawiedzy.pl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 Karol Linneusz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333360"/>
            <a:ext cx="76802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Tunga"/>
              </a:rPr>
              <a:t>Największym dokonaniem XVIII w., które zostało na masową skalę wykorzystane w kolejnym stuleciu, było skonstruowanie maszyny parowej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Symbol zastępczy zawartości 3" descr="http://historion.pl/wp-content/uploads/2012/06/Silnik-parowy-Watta.jpg"/>
          <p:cNvPicPr/>
          <p:nvPr/>
        </p:nvPicPr>
        <p:blipFill>
          <a:blip r:embed="rId1"/>
          <a:stretch/>
        </p:blipFill>
        <p:spPr>
          <a:xfrm>
            <a:off x="539640" y="1844640"/>
            <a:ext cx="4392720" cy="2736720"/>
          </a:xfrm>
          <a:prstGeom prst="rect">
            <a:avLst/>
          </a:prstGeom>
          <a:ln w="0">
            <a:noFill/>
          </a:ln>
        </p:spPr>
      </p:pic>
      <p:pic>
        <p:nvPicPr>
          <p:cNvPr id="145" name="Obraz 5" descr="http://www.primus.com.pl/ng9/strony%20uczniow/mateusz_borowski_wynalazcy/james_watt.jpg"/>
          <p:cNvPicPr/>
          <p:nvPr/>
        </p:nvPicPr>
        <p:blipFill>
          <a:blip r:embed="rId2"/>
          <a:stretch/>
        </p:blipFill>
        <p:spPr>
          <a:xfrm>
            <a:off x="5292720" y="1312920"/>
            <a:ext cx="3324240" cy="4600440"/>
          </a:xfrm>
          <a:prstGeom prst="rect">
            <a:avLst/>
          </a:prstGeom>
          <a:ln w="0">
            <a:noFill/>
          </a:ln>
        </p:spPr>
      </p:pic>
      <p:sp>
        <p:nvSpPr>
          <p:cNvPr id="146" name="Prostokąt 7"/>
          <p:cNvSpPr/>
          <p:nvPr/>
        </p:nvSpPr>
        <p:spPr>
          <a:xfrm>
            <a:off x="75564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istorion.p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rostokąt 8"/>
          <p:cNvSpPr/>
          <p:nvPr/>
        </p:nvSpPr>
        <p:spPr>
          <a:xfrm>
            <a:off x="5292720" y="59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mes Wat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imus.com.p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–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2080" y="765000"/>
            <a:ext cx="400356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LATAJĄCE  CZÓŁENKO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1733 roku gręplarz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ohn K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nalazł latające czółenko, któ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elokrotniło wydajność warsztat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kackiego. Prześladowany prze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kaczy musiał opuścić Anglię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chronienie znalazł we Francji, gdz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arł w zupełnej nędzy. Jeg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nalazek został rozpowszechnion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koło 1760 roku w przemyś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łókienniczym, zwłaszcz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awełniany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Obraz 3" descr="Plik:John Kay2.JPG"/>
          <p:cNvPicPr/>
          <p:nvPr/>
        </p:nvPicPr>
        <p:blipFill>
          <a:blip r:embed="rId1"/>
          <a:stretch/>
        </p:blipFill>
        <p:spPr>
          <a:xfrm>
            <a:off x="6588000" y="3753000"/>
            <a:ext cx="1584360" cy="2730240"/>
          </a:xfrm>
          <a:prstGeom prst="rect">
            <a:avLst/>
          </a:prstGeom>
          <a:ln w="0">
            <a:noFill/>
          </a:ln>
        </p:spPr>
      </p:pic>
      <p:pic>
        <p:nvPicPr>
          <p:cNvPr id="150" name="Obraz 4" descr="http://wynalazki.slomniki.pl/images/stories/duze/kay1.jpg"/>
          <p:cNvPicPr/>
          <p:nvPr/>
        </p:nvPicPr>
        <p:blipFill>
          <a:blip r:embed="rId2"/>
          <a:stretch/>
        </p:blipFill>
        <p:spPr>
          <a:xfrm>
            <a:off x="4356000" y="1125360"/>
            <a:ext cx="4686480" cy="1619280"/>
          </a:xfrm>
          <a:prstGeom prst="rect">
            <a:avLst/>
          </a:prstGeom>
          <a:ln w="0">
            <a:noFill/>
          </a:ln>
        </p:spPr>
      </p:pic>
      <p:sp>
        <p:nvSpPr>
          <p:cNvPr id="151" name="Prostokąt 5"/>
          <p:cNvSpPr/>
          <p:nvPr/>
        </p:nvSpPr>
        <p:spPr>
          <a:xfrm>
            <a:off x="4500720" y="3105000"/>
            <a:ext cx="45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ynalazki.slomniki.pl/index.php/wynalazcy/77-k/864-kay-john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rostokąt 2"/>
          <p:cNvSpPr/>
          <p:nvPr/>
        </p:nvSpPr>
        <p:spPr>
          <a:xfrm>
            <a:off x="3635280" y="4365720"/>
            <a:ext cx="234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hn Kay  www.wikipedia 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zędza Joasia”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Obraz 3" descr="Spinning Jenny 300x247 Rewolucja przemys&amp;lstrok;owa w XVIII wieku   historia"/>
          <p:cNvPicPr/>
          <p:nvPr/>
        </p:nvPicPr>
        <p:blipFill>
          <a:blip r:embed="rId1"/>
          <a:stretch/>
        </p:blipFill>
        <p:spPr>
          <a:xfrm>
            <a:off x="755640" y="1268280"/>
            <a:ext cx="360036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Prostokąt 4"/>
          <p:cNvSpPr/>
          <p:nvPr/>
        </p:nvSpPr>
        <p:spPr>
          <a:xfrm>
            <a:off x="4643280" y="2550960"/>
            <a:ext cx="424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767 roku przez cieślę i tkacza z Lancashire, Jamesa Hargreavesa.  Była to słynna „przędąca Joasia” (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spinning Jenn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, mechaniczna przędzarka wózkowa. Ruchem korby wprowadzało się  w ruch osiem wrzecion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9280" y="1154160"/>
            <a:ext cx="468000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enjamin Franklin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był jednym z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ybitniejszych uczonych XVIII wieku. 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752 roku podczas burzy wypuścił latawie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doczepionym metalowym kluczem, b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stępnie wykazać w badaniach, że klucz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ostał naładowany elektrycznie - dowiód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ym samym elektrycznej natury błyskawic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krótce po tym wynalazł piorunochr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jący za zadanie chronić ochronę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udynków podczas burz.  Był on twórc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icznych wynalazków, m.in.: fote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ujanego, organów kieliszkowych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densatora płaski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Benjamin Frankl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Obraz 3" descr="http://energia.toowo.pl/z_pioruny/piorunochron.jpg"/>
          <p:cNvPicPr/>
          <p:nvPr/>
        </p:nvPicPr>
        <p:blipFill>
          <a:blip r:embed="rId1"/>
          <a:stretch/>
        </p:blipFill>
        <p:spPr>
          <a:xfrm>
            <a:off x="4859280" y="1154160"/>
            <a:ext cx="3600360" cy="2879640"/>
          </a:xfrm>
          <a:prstGeom prst="rect">
            <a:avLst/>
          </a:prstGeom>
          <a:ln w="0">
            <a:noFill/>
          </a:ln>
        </p:spPr>
      </p:pic>
      <p:sp>
        <p:nvSpPr>
          <p:cNvPr id="160" name="Prostokąt 4"/>
          <p:cNvSpPr/>
          <p:nvPr/>
        </p:nvSpPr>
        <p:spPr>
          <a:xfrm>
            <a:off x="5003640" y="4221000"/>
            <a:ext cx="36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dulandia.pl/edukacja/1,124766,6525480,Benjamin_Franklin.html#ixzz2MTKqLed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unga"/>
              </a:rPr>
              <a:t>Symbolem dorobku naukowego XVIII w. stała się Wielka Encyklopedi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Symbol zastępczy zawartości 3" descr="https://encrypted-tbn0.gstatic.com/images?q=tbn:ANd9GcRaWon-he6PWjEqFAUl6rHK0PXAyeRLwWd0FhglhSl3GLDpvkcy"/>
          <p:cNvPicPr/>
          <p:nvPr/>
        </p:nvPicPr>
        <p:blipFill>
          <a:blip r:embed="rId1"/>
          <a:stretch/>
        </p:blipFill>
        <p:spPr>
          <a:xfrm>
            <a:off x="250920" y="1731960"/>
            <a:ext cx="4825800" cy="3527280"/>
          </a:xfrm>
          <a:prstGeom prst="rect">
            <a:avLst/>
          </a:prstGeom>
          <a:ln w="0">
            <a:noFill/>
          </a:ln>
        </p:spPr>
      </p:pic>
      <p:sp>
        <p:nvSpPr>
          <p:cNvPr id="163" name="Prostokąt 4"/>
          <p:cNvSpPr/>
          <p:nvPr/>
        </p:nvSpPr>
        <p:spPr>
          <a:xfrm>
            <a:off x="1619280" y="52704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www.wiw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irc_mi" descr="http://2.bp.blogspot.com/_XA9l0Gp5D_A/SedrBKtc2SI/AAAAAAAAAHg/EFQkxLYCmLk/s320/encyklopedia+francuska.jpg"/>
          <p:cNvPicPr/>
          <p:nvPr/>
        </p:nvPicPr>
        <p:blipFill>
          <a:blip r:embed="rId2"/>
          <a:stretch/>
        </p:blipFill>
        <p:spPr>
          <a:xfrm>
            <a:off x="5292720" y="1916280"/>
            <a:ext cx="3191040" cy="2774880"/>
          </a:xfrm>
          <a:prstGeom prst="rect">
            <a:avLst/>
          </a:prstGeom>
          <a:ln w="0">
            <a:noFill/>
          </a:ln>
        </p:spPr>
      </p:pic>
      <p:sp>
        <p:nvSpPr>
          <p:cNvPr id="165" name="Prostokąt 6"/>
          <p:cNvSpPr/>
          <p:nvPr/>
        </p:nvSpPr>
        <p:spPr>
          <a:xfrm>
            <a:off x="4140360" y="5454720"/>
            <a:ext cx="4176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ttp://projektoswiecenie2009.blogspot.com/2009/04/powiastka-filozoficzna_19.html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http://gifyjustinbiebermichaeljacksoniinne.blox.pl/resource/mediumkbml6m55493ecfbe1da9552923.jpg"/>
          <p:cNvPicPr/>
          <p:nvPr/>
        </p:nvPicPr>
        <p:blipFill>
          <a:blip r:embed="rId1"/>
          <a:stretch/>
        </p:blipFill>
        <p:spPr>
          <a:xfrm>
            <a:off x="665280" y="2924280"/>
            <a:ext cx="952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397400" y="17316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7451640" y="4361040"/>
            <a:ext cx="1135080" cy="1546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539640" y="83664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900000" y="765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"wiek rozumu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580000" y="3789360"/>
            <a:ext cx="35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611280" y="4221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"wiek filozofów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ostokąt 1"/>
          <p:cNvSpPr/>
          <p:nvPr/>
        </p:nvSpPr>
        <p:spPr>
          <a:xfrm>
            <a:off x="324000" y="1700280"/>
            <a:ext cx="84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świecenie -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prąd intelektualny, który w XVIII wieku zdominował Europę. Ruch intelektualny oparty na krytyce ustalonych poglądów i postaw, popierający oświatę , tolerancję religijną prawa naturalne .  Oświecenie hołd dla rozum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33300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lozofia oświecenia czerpała z dorobku F.Bacona i T.Hobbsa</a:t>
            </a: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50920" y="242100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NIECZNOŚĆ REFORMY WIEDZY i WIARA W POSTĘ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726080" y="212868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ranciszek Bac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0" descr="bacon"/>
          <p:cNvPicPr/>
          <p:nvPr/>
        </p:nvPicPr>
        <p:blipFill>
          <a:blip r:embed="rId1"/>
          <a:stretch/>
        </p:blipFill>
        <p:spPr>
          <a:xfrm>
            <a:off x="5724360" y="2860560"/>
            <a:ext cx="2621160" cy="33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ytycyz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acjonalizm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Empiryzm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teiz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eiz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Filozofia oświecen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goya2"/>
          <p:cNvPicPr/>
          <p:nvPr/>
        </p:nvPicPr>
        <p:blipFill>
          <a:blip r:embed="rId1"/>
          <a:stretch/>
        </p:blipFill>
        <p:spPr>
          <a:xfrm>
            <a:off x="395280" y="1628640"/>
            <a:ext cx="302436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Black"/>
              </a:rPr>
              <a:t>Racjonalizm – rozum jest najważniejsz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211640" y="333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211640" y="285264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Gdy rozum śpi budzą się upiory 179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rostokąt 1"/>
          <p:cNvSpPr/>
          <p:nvPr/>
        </p:nvSpPr>
        <p:spPr>
          <a:xfrm>
            <a:off x="3708360" y="458136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wikipedia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dy rozum śpi budzą się demo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Francisco Goya, pomiędzy 1797 a 1798 r.Museo del Grabado de Goy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52440" y="1463400"/>
            <a:ext cx="479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Wszystka wiedza pochodzi z doświadczenia. Doświadczenie jest produktem rozumu„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Immanuel K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http://www.theowinter.com/2011/11/08/idealist-vs-materialist-ethics/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empiryzm –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najważniejsze w poznawaniu jest doświadczeni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az 3" descr="http://www.theowinter.com/wp-content/uploads/2011/11/kant.jpg"/>
          <p:cNvPicPr/>
          <p:nvPr/>
        </p:nvPicPr>
        <p:blipFill>
          <a:blip r:embed="rId1"/>
          <a:stretch/>
        </p:blipFill>
        <p:spPr>
          <a:xfrm>
            <a:off x="5148360" y="1484280"/>
            <a:ext cx="2879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4f81bd"/>
                </a:solidFill>
                <a:latin typeface="Calibri"/>
                <a:ea typeface="Tunga"/>
              </a:rPr>
              <a:t>John Lock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John_Lock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89000"/>
            <a:ext cx="2327400" cy="27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Rozmiar: 58937 bajtów"/>
          <p:cNvPicPr/>
          <p:nvPr/>
        </p:nvPicPr>
        <p:blipFill>
          <a:blip r:embed="rId3"/>
          <a:stretch/>
        </p:blipFill>
        <p:spPr>
          <a:xfrm>
            <a:off x="179280" y="3284640"/>
            <a:ext cx="8744040" cy="3573360"/>
          </a:xfrm>
          <a:prstGeom prst="rect">
            <a:avLst/>
          </a:prstGeom>
          <a:ln w="0">
            <a:noFill/>
          </a:ln>
        </p:spPr>
      </p:pic>
      <p:pic>
        <p:nvPicPr>
          <p:cNvPr id="122" name="Obraz 7" descr="http://1.bp.blogspot.com/_1PcngHQ9iV0/SrkwiGtxRMI/AAAAAAAAB6M/wsvTfKh1tdg/s320/1217797_open_book_.jpg"/>
          <p:cNvPicPr/>
          <p:nvPr/>
        </p:nvPicPr>
        <p:blipFill>
          <a:blip r:embed="rId4"/>
          <a:stretch/>
        </p:blipFill>
        <p:spPr>
          <a:xfrm>
            <a:off x="539640" y="1208160"/>
            <a:ext cx="285768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Nowożytne zasady ustrojowe. Krytyka despotyzmu i feudalizmu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Symbol zastępczy zawartości 3" descr="http://upload.wikimedia.org/wikipedia/commons/thumb/d/de/Locke_treatises_of_government_page.jpg/220px-Locke_treatises_of_government_page.jpg"/>
          <p:cNvPicPr/>
          <p:nvPr/>
        </p:nvPicPr>
        <p:blipFill>
          <a:blip r:embed="rId1"/>
          <a:stretch/>
        </p:blipFill>
        <p:spPr>
          <a:xfrm>
            <a:off x="468360" y="1844640"/>
            <a:ext cx="2793960" cy="4280040"/>
          </a:xfrm>
          <a:prstGeom prst="rect">
            <a:avLst/>
          </a:prstGeom>
          <a:ln w="0">
            <a:noFill/>
          </a:ln>
        </p:spPr>
      </p:pic>
      <p:sp>
        <p:nvSpPr>
          <p:cNvPr id="125" name="Prostokąt 4"/>
          <p:cNvSpPr/>
          <p:nvPr/>
        </p:nvSpPr>
        <p:spPr>
          <a:xfrm>
            <a:off x="3203640" y="1484280"/>
            <a:ext cx="57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aństwo powstaje w wyniku umowy społecznej J.J.Roussoue  :” Umowa społeczn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.Locke „  Dwa traktaty o rządze „ – teoria demokrac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20602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O duchu praw” (1748)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98644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  <a:ea typeface="Tunga"/>
              </a:rPr>
              <a:t>Monteskiusz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monteskiusz"/>
          <p:cNvPicPr/>
          <p:nvPr/>
        </p:nvPicPr>
        <p:blipFill>
          <a:blip r:embed="rId1"/>
          <a:stretch/>
        </p:blipFill>
        <p:spPr>
          <a:xfrm>
            <a:off x="6516720" y="189000"/>
            <a:ext cx="1905120" cy="2933640"/>
          </a:xfrm>
          <a:prstGeom prst="rect">
            <a:avLst/>
          </a:prstGeom>
          <a:ln w="0">
            <a:noFill/>
          </a:ln>
        </p:spPr>
      </p:pic>
      <p:pic>
        <p:nvPicPr>
          <p:cNvPr id="129" name="Obraz 7" descr="https://edukator.pl/pix/users/images/jj_rousseau.jpg"/>
          <p:cNvPicPr/>
          <p:nvPr/>
        </p:nvPicPr>
        <p:blipFill>
          <a:blip r:embed="rId2"/>
          <a:stretch/>
        </p:blipFill>
        <p:spPr>
          <a:xfrm>
            <a:off x="2268360" y="3357720"/>
            <a:ext cx="190512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5T10:23:26Z</dcterms:modified>
  <cp:revision>10</cp:revision>
  <dc:subject/>
  <dc:title>Slajd 1</dc:title>
</cp:coreProperties>
</file>